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9CB-1A35-4F41-8101-C3FBF6CE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27DD-F596-49A1-810A-8477803E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B42-56BF-4C15-8918-000B1A17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9BD-E9EE-4E03-8806-355614CF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342-FCFF-45BA-B0BC-13CDC3AB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591-31EE-4A38-8733-B2CB9C29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2DF-9B15-41B3-A884-E25184E9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294-CD15-40C6-A5ED-D7F7E4BE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87C-098D-465B-99A5-4F2E6E36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2A6-238E-4F9C-A5CB-B3F8FB2F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C76-7017-491C-B452-36BE76F4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5A3-353D-4765-B1C8-D0CDD453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E03B-F029-4EF1-A398-1BF38CAEA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Congruency</a:t>
            </a:r>
            <a:br>
              <a:rPr sz="4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Daquann Ch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esah Martin, Grav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ongr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hapes are congruent if they are the same (shape and size)- in other words, if the lengths of the sides and the angles are the sam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343400" cy="33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What does it mean for polygons to be congru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Polygon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re congruent when they have the same number of sides, and all corresponding sides and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ior angl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re congruent. The polygons will have the same shape and size, but one may be a rotated, or be the mirror image of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ve shortcuts for determining if triangles are congru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-Side-Side-If the three side of one triangle are congruent to the three sides of another triangle then the two triangles are congru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-Angle-Side- If two sides and the included angle of one triangle are congruent to two sides and the included angle of another triangle , then the two triangles are congru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le-Side-Angle- If two angles and the included side of an triangle are congruent to two angles and the included side of another triangle, then the two triangles are congruent.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le-Angle-Side- If two angles and a non-included side of one triangle are congruent to the angle and the corresponding non-included side of another triangle, the triangles are congru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-Side-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three side of one triangle are congruent to the three sides of another triangle then the two triangles are congru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267080" cy="350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21:29Z</dcterms:created>
  <dc:creator>117815</dc:creator>
  <dc:description/>
  <dc:language>en-US</dc:language>
  <cp:lastModifiedBy>117815</cp:lastModifiedBy>
  <dcterms:modified xsi:type="dcterms:W3CDTF">2008-05-02T16:17:09Z</dcterms:modified>
  <cp:revision>8</cp:revision>
  <dc:subject/>
  <dc:title>Congruency </dc:title>
</cp:coreProperties>
</file>